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3AC-38F5-4536-A8E6-3EDD2473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D1B-03C1-4831-B4AC-0263B0CB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299-A10C-48A8-A1AC-6D39DA75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D0C-4F96-47A4-BDCD-BCE362B3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11E-E8CA-4B63-803E-BEAAFC1E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F61-6234-466B-8E18-9FE63CEF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DDE-F7C0-4BBD-A6C3-DEB78545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CAE-7E40-4876-AF35-AB5196B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899-C06A-4ECD-900C-7692849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4BE-A1C8-4FB5-B509-9D1E06B0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0FB-B030-4C04-AEB2-515DEE3C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223-F968-4A00-9DC9-DE68882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B8B-94EE-4DF0-95B1-9B666BA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08E-D16F-44DF-A521-D8B77AA7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864-1B2A-4648-B439-6C0BF5EA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4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6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20204_393328290743197_1698626473_n.jpg"/>
          <p:cNvPicPr/>
          <p:nvPr/>
        </p:nvPicPr>
        <p:blipFill>
          <a:blip r:embed="rId10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11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52280" y="57150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282890_472189296142141_2129182302_n.jpg"/>
          <p:cNvPicPr/>
          <p:nvPr/>
        </p:nvPicPr>
        <p:blipFill>
          <a:blip r:embed="rId12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User</cp:lastModifiedBy>
  <dcterms:modified xsi:type="dcterms:W3CDTF">2012-12-04T14:07:54Z</dcterms:modified>
  <cp:revision>101</cp:revision>
  <dc:subject/>
  <dc:title>Profile</dc:title>
</cp:coreProperties>
</file>